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A4A-12F8-47C2-9CFF-6FA04E09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930-0D36-47C4-B49F-934EAF8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336-4AB3-4A71-8125-556F9184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035-5AB6-4120-A39D-BF4EACC6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1AAC-6621-4652-A9FA-13FC26A7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08CC-7DA8-41EC-B8B2-DA7E8F06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A2E9-46E2-451E-9B00-A12491AD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4A66-5484-496A-8A63-212B157D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18BA-A9BB-4913-AC87-55BFA3E0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D1E9-C7B8-4482-93DF-96EA16DC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BB8B-BDBE-4DA9-ADF3-65E406A1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8F5-9F3E-416A-AF96-B588C1F1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4ACF-1C3C-48A6-AD47-0F67199B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4405-93ED-4875-B73D-1C72AD24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989D-E3C8-412F-9BE4-6E5FD1F4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950C-A663-4815-8E67-5A975A1F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3D2F-4823-4F19-A173-23FD30B6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EE7-B446-4E7E-B881-D6817445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7D8-311C-44EE-9FCD-935669A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36F-05B9-4752-9BA2-5328BAFB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076-3FB4-4C07-AA9B-07CE8655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39B-E8AD-4495-8B24-65E1B05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932-5785-4001-8263-32D28B8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1B1-3587-4C17-86BF-100047FA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DCA0-04D7-4934-9CF2-2BAC9E8708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5E82-5F52-489B-B4FE-BA1373E2D2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rt Histo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ement-by-mo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rthern Euro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2530440" cy="3429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3905280" y="1600200"/>
            <a:ext cx="4095720" cy="3417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1219320" y="5029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doration of the Magi, Rubens (162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3886200" y="51055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Night Watch, Rembrandt (164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18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700–18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son over emotion and nature (earl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otion/war and landscapes (lat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ization/idealization in his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m and portrai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and Wr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18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57800" cy="397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2"/>
          <a:stretch/>
        </p:blipFill>
        <p:spPr>
          <a:xfrm>
            <a:off x="5927760" y="1600200"/>
            <a:ext cx="2797200" cy="3962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1066680" y="55627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ath of the Horatii, David (178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943600" y="5486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lchemist…, Wright (177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-19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800–18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t for public vie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f-conscious borro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depiction of contemporary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oclassicism and Romantic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acroix and Cons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-19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5454720" y="1600200"/>
            <a:ext cx="3251160" cy="3809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648320" cy="38228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457200" y="54100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berty Leading the People, Delacroix (183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486400" y="5410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ornfield, Constable (1826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rn 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860–19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t history: drawing from the p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t for art’s sake/art for life’s s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yle over represen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ress. –&gt; Post-Impress. –&gt; Expr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et, Gauguin, van Gogh, Mun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rn 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2639880" y="1600200"/>
            <a:ext cx="1541520" cy="1981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09880" cy="1973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3"/>
          <a:stretch/>
        </p:blipFill>
        <p:spPr>
          <a:xfrm>
            <a:off x="7162920" y="1600200"/>
            <a:ext cx="1500120" cy="1981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"/>
          <p:cNvPicPr/>
          <p:nvPr/>
        </p:nvPicPr>
        <p:blipFill>
          <a:blip r:embed="rId4"/>
          <a:stretch/>
        </p:blipFill>
        <p:spPr>
          <a:xfrm>
            <a:off x="4419720" y="1600200"/>
            <a:ext cx="2514600" cy="2003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"/>
          <p:cNvSpPr/>
          <p:nvPr/>
        </p:nvSpPr>
        <p:spPr>
          <a:xfrm>
            <a:off x="4191120" y="3581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tarry Night, van Gogh (188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7162920" y="35812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ream, Munch (189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7200" y="35812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er Lily Pond, Monet (188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666880" y="3581280"/>
            <a:ext cx="152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Yellow Christ, Gauguin (188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-2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900–19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ive for authentic/expressive mod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ividual identity within avant-gar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straction takes the place of relig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st against the cruelty of w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casso, Kandinsky, Kahlo, Matis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-2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2629080" cy="1724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7543800" y="1600200"/>
            <a:ext cx="1144440" cy="167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63560" cy="16765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457200" y="33526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ernica, Picasso (1937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971800" y="3352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osition X, Kandinsky (193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7467480" y="33526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azz, Matisse (1947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54040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wo Fridas, Kahlo (193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te-2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950–2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imalism &amp; Pop: “cooler” abstr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rcialization and specu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dical innovation &amp; m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linear patterns in mov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s, Warhol, Pollock, Chr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Renaiss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ears: 1400–15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igious subjects/scenes (even portrai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m, for middle-class patr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des: Strength/grace (N), vulnerable (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ined/circulated media &amp;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atello &amp; Botticel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te-20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2590920" cy="182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1428840" cy="1847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4"/>
          <a:stretch/>
        </p:blipFill>
        <p:spPr>
          <a:xfrm>
            <a:off x="6248520" y="1600200"/>
            <a:ext cx="2476440" cy="185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1"/>
          <p:cNvSpPr/>
          <p:nvPr/>
        </p:nvSpPr>
        <p:spPr>
          <a:xfrm>
            <a:off x="2438280" y="3352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ag, Johns (1957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495680" y="335268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pbell’s Soup, Warhol (196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457200" y="33526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laxy, Pollock (1947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6248520" y="3352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ates, Christo (200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Renaiss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5029200" cy="2955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048120" cy="2960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304920" y="46483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ast of Herod, Donatello (142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4038480" y="46483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irth of Venus, Botticelli (148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Renaissance/Manner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ears: 1500–16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incing representation of human 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ection of dramatic narrative (‘</a:t>
            </a:r>
            <a:r>
              <a:rPr b="0" lang="el-GR" sz="2800" spc="-1" strike="noStrike">
                <a:solidFill>
                  <a:srgbClr val="ffffff"/>
                </a:solidFill>
                <a:latin typeface="Verdana"/>
              </a:rPr>
              <a:t>ιστορια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ace: perspective, light/shade, col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ulation of antiq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 Vinci, Raphael, Michelange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Renaissance/Manner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31292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3047760" cy="2038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3"/>
          <a:stretch/>
        </p:blipFill>
        <p:spPr>
          <a:xfrm>
            <a:off x="5105520" y="1600200"/>
            <a:ext cx="3581280" cy="2044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457200" y="37339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a Lisa, Da Vinci (150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676520" y="37339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chool of Athens, Raphael (150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029200" y="3733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ion of Adam, Sistine Chapel Ceiling, Michelangelo (150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roq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600–17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zarre or misshape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igious origins (Counter-reform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ention to landsca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hitecture: St. Peter’s &amp; Versail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avaggio &amp; Carrac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roque Pain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05320" cy="248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4495680" cy="2451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304920" y="41148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pper at Emmaus, Caravaggio (160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191120" y="41148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Flight into Egypt, Carracci (160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roque Architec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419720" cy="260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657600" cy="26128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914400" y="4191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. Peter’s Basilica, Rome (1506–161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5105520" y="4267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ll of Mirrors, Palace of Versailles (1678–168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rthern Euro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es: 1500–17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tiquity taking over religious sub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cular taking over vulnera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e detail and immaculate surfa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scapes and still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s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ubens and Rembran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2:14:22Z</dcterms:created>
  <dc:creator>Cory Klecker</dc:creator>
  <dc:description/>
  <dc:language>en-US</dc:language>
  <cp:lastModifiedBy>Sue Gregory</cp:lastModifiedBy>
  <dcterms:modified xsi:type="dcterms:W3CDTF">2008-04-30T05:57:15Z</dcterms:modified>
  <cp:revision>14</cp:revision>
  <dc:subject/>
  <dc:title>Art His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